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Enhance classroom discourse through effective questioning with PL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Engage students to work with teachers to improve classroom dis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urpose of the next slides are to present general guiding questions and describe some of the ways  they deepen student th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se questions are all designed to push student to think- Garner's list (Question stri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sense do you make of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good questions can you think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part do you know for su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par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notice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kind of pattern do you not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ow would you explain this in your own wor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omeone young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did you understand the question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understand by the dire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f you did know, what would you s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wish was eas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e examples of effective discourse strategies and consider how to implement them in your own classroom in the f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strategies do you use to encourage or enhance classroom discourse in your classroo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strengths and weaknesses of the strategies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Read your assigned section of the Discourse Primer article and prepare to report back to you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Record your notes on Discourse Primer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Questions  can be used to find out what students know (so you know what you have to do to help them) or to help them th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sk more questions to help learners th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eachers spend 35-50% of teaching time posing questions, or about 100 questions per hour.  Teachers ask 300-400 questions per day, the majority of which are low-level cognitive questions (60% recall, 20% procedural) versus open-ended, inquiry questions (research cited in Hattie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nvolve students more in asking their ow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Refrain from being the arbiter of right &amp; w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Give learners a brief time to think and/ or talk with a peer before inviting responses.  Give 3-5 seconds.  Most teachers give 1 second or less (Wiliam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f a student says “I don’t know”, say you’ll go back to them after 2 more people; if they say they still don’t know, ask them to state their favorite response from the others and tell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Good teaching is more a giving of right questions than a giving of right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Josef Al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D8BB5-DB59-44C1-BC65-7E6E42209A0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01D3B-0BE0-47B3-9B53-6B47F4D87A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6CCB9-2383-4BBD-A8DB-4611D180C46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F07BC-1328-47A1-8AB1-9EF78E41EE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802EAC-5E39-4461-A61F-27CD0637C02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BAD70-FE6D-45E7-B83B-BBD8195DA55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DE90C-1420-4827-9ED3-45F31399F8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31BD40-6CE3-4BFE-99D6-5A96BE51E8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866E3-6683-4CAC-9DF0-32157C07E50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86643-93C3-459E-9AF5-4E0693328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88A98-6DC1-424C-8217-150A35BCADB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94E47-986A-4DCD-B729-DCE236A4F7A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6C716-BA74-4295-8491-F1C8CDD5355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3B991-B4FB-43E0-91E2-28C858CDFF8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6F077-E97D-4971-9ABA-90CCEE29BCC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57274-691A-4D2D-ACB4-41AE6F32C82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119E3-1148-48DD-9B0D-4A1342A3C31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7C794-DEA2-4556-A401-06590085755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57346-DC1C-4E02-BC99-92990F5B20A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CF7C7-5189-4F12-911F-FC56205AE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2EEDF-2A94-4D03-A287-987C28FB555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120C-1A5D-47D2-ADC6-2559BC3324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4AF6-7460-4A4A-93D4-20E0386D8A5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3655-F271-4478-9D8F-2381B4F8B30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F699-1B8D-407D-B75C-5D5B1F14A38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CFBED-4ABD-4E0D-AA62-3DA025D6D6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1754-0FFD-45A5-A9B2-7E29C03F27E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5DE5-EE20-45C9-AABB-9F8EB0D3581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7B1D-5DB9-4734-B03A-19703E70FB8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4F79-0CB2-4C27-8469-4037308E0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6AD9-3A63-4071-9E5C-9661814EF85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7B9D-9777-4591-B458-0AEC57ECC9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C9461-38F4-4200-9733-8CA7E8412D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1ED9-0978-4A29-A282-33E4F50F44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6107-F179-43B6-BA94-D1C3477090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B402-3F12-47CD-AFE4-EB88A08741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5E36-EA7C-4C30-9892-EAA9CF880A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68FA-3F62-4A3D-9832-910DB57F44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0854-685A-4E79-990C-4CAA902D13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A2A6-8ABE-457A-989B-7710F57DE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F03F-D963-4D13-9EFE-42549E5C19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7D2D-AC60-4760-A353-C2AED70C42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2D01-F76D-4156-A23A-331AD52F47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E4E0-014A-4771-858F-883A3A7CF6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00B8-DA75-43E2-8447-1B79F52275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219F5-89F8-4B76-AA40-633DF1BD29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78A6-CF7E-47DC-BB92-5120702949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72DF-2BEB-4232-A875-8239FEFD04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1C95-D0D3-4E6A-B3FA-DE07A9F375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7C57-911B-47B8-8DCE-889E03D45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BD5E-503D-48C3-AA1A-920784DB7D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9F66-FC3B-4489-A2C8-1FD916F686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1491-B695-4454-AE7B-F7F0AEDEF2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F545-32D4-4509-880F-7E39D2211B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BB32-1E75-4A63-A846-3951982A73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7820-2C5F-438C-BB71-DE38B33D6E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FF40-6DCD-48DF-B245-DC36F7FF95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79D-51A9-40BF-AADA-6DD83E685E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826-63CD-4C9D-81A3-28EA1F6ECB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CBD-23B6-4D2E-BDEF-515F57650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EAC-CEFD-47FF-BDCE-8B8FF81F60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462-4EBB-4B78-9C0E-8E600CE80F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DF4-7FE6-499D-A78F-8EAAD39AE0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4EA-77B3-4943-9AB5-305B0CF1F8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A7A-796D-43AB-95F6-749A3B1900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1E8-43AC-439C-BAAB-5910026A8D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95E-BC0C-4094-A5FC-E7E851D172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750-C209-423B-ACAD-35904CE8FA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135-7FF9-475D-944D-4CFB11A38F2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93283-FD11-458B-B01A-84E804AD0D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ADB60-6B95-4AAE-B699-AC50AA608D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53861-3642-45EE-B23C-BC9E80134D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1760A-2002-43EA-BDC7-8B34ADA1DF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8B584-2A65-4D5E-9595-122DC73CA8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338D0-0F8E-4F2D-9D73-4F02E981EA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C9A3E-974D-418C-8CD0-A353C7B94A5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0A67A-F8C4-4790-8DFA-3509475403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2DAAE-32E1-4449-B120-C35C79E71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6E76D-A7F2-450B-ACB8-2FF04A94506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94D9A-23D0-479C-8EAF-7CC6D3116E5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5DB6D-A9FC-453F-9334-136D67EAE5B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A2E5E-7150-4B5F-9869-EDF4F59E03A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AD1EB-9701-4D27-A9B9-3C2EE2CAE8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41F6E-A793-4F27-917B-D0FE134AE3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502FD-3441-4CB2-BAE0-136C1CB7AB5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C046D-56D5-4247-8993-621BE11D1C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44450-F515-4A5C-9236-392B1624F78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E811B-B90E-42BD-B4EA-F48456789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A03B0-D82F-4C29-91B0-49EDC85CC49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3B2E9-5181-4E27-85D2-9949DC860CF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EBF8F-B99F-4083-BDCD-E762D6012ED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4E9FA-B9C0-4E28-B11C-644AFF75F38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5674C-A402-42AC-B87C-C66774C5BA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43D4-E0DA-4B34-8D37-CF3CF2B5422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5D3B-77DD-4840-A7DE-5B94362F6DB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15B3-668E-45D5-BB63-19C4792BF0C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20F9-886C-4D56-810C-78E779AE2CD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A6EC-1A65-48B8-A719-FC555956D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7640" y="0"/>
            <a:ext cx="11709360" cy="11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278A-63C9-4EE3-BEA5-7D85B62C222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909A-3D0D-4F76-9F83-0B7C88BC3C6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3530-3EB1-4F62-B6A7-578DB4555B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AFD2-EE03-419A-9F6E-EC1BEF90DDD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01E3-2889-40E3-A3C4-770FAE05B9F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AE95-1868-44B6-B082-5C04880D43D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B11B-4FDB-40EE-8203-E048F7E78CF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0E4AB-C77C-4964-A4C2-EE625406D00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34B900-4947-4BBF-97A4-478B78BE211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D5E64-014E-45AB-8CE7-E591ABEFB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8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C9CE-D75F-450E-9E5A-B0576361E3C2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9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9C47-DC51-4C7C-8122-4E9E7B2DEFDD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5848-471B-4EDD-AA6B-E230A84DA174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B767-C4E6-4E67-9BCF-D39883779357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894B-A15B-4A49-94A1-5E636890F3AC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4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F2D2-D6C4-4FF8-A7D2-A667BAEF1706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5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6DF3-7BB0-441E-AFD0-7846D9EE412B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6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9DB-2632-45B4-ABF0-AAF47928136C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11049120" cy="20160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b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95280" y="205740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12840" indent="-2732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8600">
              <a:spcBef>
                <a:spcPts val="79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2" marL="811080" indent="-228600">
              <a:spcBef>
                <a:spcPts val="799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3" marL="1085760" indent="-228600">
              <a:spcBef>
                <a:spcPts val="799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1360440" indent="-228600">
              <a:spcBef>
                <a:spcPts val="799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5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6" marL="1360440" indent="-228600">
              <a:spcBef>
                <a:spcPts val="799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7"/>
          </p:nvPr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9B00-1E53-4CC9-99BF-3BB47213FBED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7647120" cy="107316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7493040" y="151920"/>
            <a:ext cx="5029200" cy="678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Enhance classroom discourse through effective questioning with PLC suppor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3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Engage students to work with teachers to improve classroom discours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29A3-CC32-4F3A-8114-FBD688C789C3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863640" y="647640"/>
            <a:ext cx="5575320" cy="8458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7581960" y="3035160"/>
            <a:ext cx="4673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Guiding Question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4CE7-AD07-4D8E-B5D1-7EA0861E5E8C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6120" y="1531800"/>
            <a:ext cx="1074420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sense do you make of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good questions can you think o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part do you know for sur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part do you underst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notice?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kind of pattern do you no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How would you explain this in your own wor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someone young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did you understand the question to 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understand by the direc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If you did know, what would you s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do you wish was easi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09960" y="507960"/>
            <a:ext cx="6985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Guid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5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Resources for Breakout Sessions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 sheets by Lori’s des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76F1-25B5-44A2-89A9-1B9C4E7E448B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6464160" y="4533840"/>
            <a:ext cx="4381560" cy="43815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2298600" y="3784680"/>
            <a:ext cx="2971800" cy="37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9653E-4077-4DD1-934A-E165B4C7EA8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298600" y="-1854360"/>
            <a:ext cx="7696440" cy="76964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47640" y="3670200"/>
            <a:ext cx="1170936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 examples of effective discourse strategies during the content immersion and consider how to implement them in your own classroom in the f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13195440" cy="990612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279000" y="355320"/>
            <a:ext cx="10210680" cy="975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strategies do you use to encourage or enhance classroom discourse in your classrooms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strengths and weaknesses of the strategies you use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2547440" cy="69724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427480" y="417600"/>
            <a:ext cx="81374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</a:rPr>
              <a:t>http://tools4teachingscience.or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755800" y="7797960"/>
            <a:ext cx="577872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Discourse Tools and Vid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269720" y="575280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llow the protocol for the article and share your ideas with your table group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905120" y="668160"/>
            <a:ext cx="8229600" cy="49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8920" y="98280"/>
            <a:ext cx="12818880" cy="9525240"/>
          </a:xfrm>
          <a:prstGeom prst="roundRect">
            <a:avLst>
              <a:gd name="adj" fmla="val 3463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95280" y="9036000"/>
            <a:ext cx="272880" cy="254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A56F-E60D-4F65-9B60-9238129122D3}" type="slidenum">
              <a:rPr b="0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868280" cy="104014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492360" y="749160"/>
            <a:ext cx="688356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How will your PLC support you as you embed these ideas of discourse into your classroom prac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825480" y="2743200"/>
            <a:ext cx="1170936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 can be used to find out what students know (so you know what you have to do to help them) or to help them thi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k more questions to help learners thi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2044800" y="596880"/>
            <a:ext cx="9118440" cy="2108160"/>
          </a:xfrm>
          <a:prstGeom prst="roundRect">
            <a:avLst>
              <a:gd name="adj" fmla="val 9032"/>
            </a:avLst>
          </a:pr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60440" y="584280"/>
            <a:ext cx="8712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Bold"/>
                <a:ea typeface="Calibri Bold"/>
              </a:rPr>
              <a:t>Engineering Effective Discussions, Questions, and Learning Tasks that Elicit Evidence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044800" y="596880"/>
            <a:ext cx="9118440" cy="2108160"/>
          </a:xfrm>
          <a:prstGeom prst="roundRect">
            <a:avLst>
              <a:gd name="adj" fmla="val 9032"/>
            </a:avLst>
          </a:pr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31840" y="2997360"/>
            <a:ext cx="915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Teachers spend 35-50% of teaching time posing questions, or about 100 questions per hou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Teachers ask 300-400 questions per day, the majority of which are low-level cognitive questions (60% recall, 20% procedural) versus open-ended, inquiry questions (research cited in Hattie, 2009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60440" y="584280"/>
            <a:ext cx="8712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Bold"/>
                <a:ea typeface="Calibri Bold"/>
              </a:rPr>
              <a:t>Engineering Effective Discussions, Questions, and Learning Tasks that Elicit Evidence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87EB-8F79-4108-A213-5ED74DD8736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47640" y="29592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nvolve students more in asking their own ques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Refrain from being the arbiter of right and wro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Give learners a brief time to think and/ or talk with a peer before inviting responses.  Give 3-5 seconds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teachers give 1 second or less (Wiliam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f a student says “I don’t know”, say you’ll go back to them after 2 more people; if they say they still don’t know, ask them to state their favorite response from the others and tell wh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/>
          <p:nvPr/>
        </p:nvSpPr>
        <p:spPr>
          <a:xfrm>
            <a:off x="2044800" y="596880"/>
            <a:ext cx="9118440" cy="2108160"/>
          </a:xfrm>
          <a:prstGeom prst="roundRect">
            <a:avLst>
              <a:gd name="adj" fmla="val 9032"/>
            </a:avLst>
          </a:pr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55880" y="520560"/>
            <a:ext cx="910584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Bold"/>
                <a:ea typeface="Calibri Bold"/>
              </a:rPr>
              <a:t>Engineering Effective Discussions, Questions, and Learning Tasks that Elicit Evidence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47640" y="2730600"/>
            <a:ext cx="11709360" cy="94996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ood teaching is more a giving of right questions than a giving of right answers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sef Al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